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D3577-649A-4F48-BB1E-3B6EE0381D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9D3609-95B7-41DD-A7A2-FD5B0F02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FED89-888B-42B0-A2DA-86F05FA8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706EE-436E-487A-8658-723C5B3091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87CB-4DA7-4176-ABA1-E93C32A53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82E4D9-5FE6-45AF-BF8D-408380E90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5CED4-8B89-44E1-B513-E9427F39E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1AD3-C574-4C96-9752-E94F2A880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0A262-0E40-4363-A009-57139924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09C48-C3C8-4D2A-8546-B246E2B52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608B3-50D8-46F1-A587-23835F9C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9E456-6A8F-4F7F-8E30-FD609193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A90C-2515-4EC0-89A5-B1133120FB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250560" y="2276640"/>
            <a:ext cx="55450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第十一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产后并发症妇女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体温过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急性疼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休息和睡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保证营养摄入；及时补液防脱水；监测并纠正水电解质失衡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提供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病情观察和记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会阴部护理，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高锰酸钾溶液冲洗外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后可温水坐浴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正确执行医嘱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患者出现高热、疼痛、呕吐时按症状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协助产妇了解产褥感染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休息、饮食、活动、服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识别自身及新生儿异常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随访、检查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97164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二节  产后心理障碍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心理障碍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6" name="图表 1" descr=""/>
          <p:cNvPicPr/>
          <p:nvPr/>
        </p:nvPicPr>
        <p:blipFill>
          <a:blip r:embed="rId1"/>
          <a:stretch/>
        </p:blipFill>
        <p:spPr>
          <a:xfrm>
            <a:off x="291960" y="1316160"/>
            <a:ext cx="865044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临床表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沮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情绪不稳定，易哭，感觉焦虑、疲劳、失眠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出现，产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天为高峰期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多在两周内出现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周明显，持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～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个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至今无统一诊断标准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1" name="图片 1" descr="6BC93707-4BF0-4C7A-BD80-D389D33FDB56.png"/>
          <p:cNvPicPr/>
          <p:nvPr/>
        </p:nvPicPr>
        <p:blipFill>
          <a:blip r:embed="rId1"/>
          <a:stretch/>
        </p:blipFill>
        <p:spPr>
          <a:xfrm>
            <a:off x="228600" y="1197000"/>
            <a:ext cx="8915400" cy="52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爱丁堡产后抑郁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dinburgh postnatal depression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EPD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后抑郁筛查量表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ostpartum depression screening scal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PDSS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684360" y="285264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第一节  产褥感染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lIns="94680" rIns="94680" tIns="51480" bIns="514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pic>
        <p:nvPicPr>
          <p:cNvPr id="146" name="图片 1" descr="461AF471-A08C-412F-A5F6-63134BB0C655.png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病情，识别诱因，缓解压力，对症处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避免刺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指导和护理，重者药物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定期家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护理诊断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合作性问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应对无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有暴力行为的危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倾听问题，给予心理疏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帮助产妇适应母亲角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对不良个性产妇给予心理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二节  产后心理障碍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9360">
            <a:solidFill>
              <a:srgbClr val="8ac8de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警惕伤害性行为，注意保护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重症患者在医师指导下给予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健康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给予产妇重视和帮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做好出院指导和随访工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WordArt 4"/>
          <p:cNvSpPr txBox="1"/>
          <p:nvPr/>
        </p:nvSpPr>
        <p:spPr>
          <a:xfrm>
            <a:off x="3419640" y="3141720"/>
            <a:ext cx="2900160" cy="106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>
                      <a:alpha val="75000"/>
                    </a:srgbClr>
                  </a:outerShdw>
                </a:effectLst>
                <a:latin typeface="黑体"/>
              </a:rPr>
              <a:t>谢谢！</a:t>
            </a:r>
            <a:endParaRPr b="0" lang="en-US" sz="5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>
                    <a:alpha val="75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感染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内生殖道受病原体侵袭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局部和全身的炎性变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产褥病率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分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以后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每日间隔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用口表测量体温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次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8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1" name="图表 1" descr=""/>
          <p:cNvPicPr/>
          <p:nvPr/>
        </p:nvPicPr>
        <p:blipFill>
          <a:blip r:embed="rId1"/>
          <a:stretch/>
        </p:blipFill>
        <p:spPr>
          <a:xfrm>
            <a:off x="317520" y="1292400"/>
            <a:ext cx="8624880" cy="49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护理评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一）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发热、疼痛、异常恶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产褥感染三大主要症状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1196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感染部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1773360"/>
          <a:ext cx="8569080" cy="4659120"/>
        </p:xfrm>
        <a:graphic>
          <a:graphicData uri="http://schemas.openxmlformats.org/drawingml/2006/table">
            <a:tbl>
              <a:tblPr/>
              <a:tblGrid>
                <a:gridCol w="2232000"/>
                <a:gridCol w="633708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外阴伤口感染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会阴裂伤或会阴切开部感染，葡萄球菌和大肠埃希菌感染为主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阴道、宫颈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黏膜充血、水肿、溃疡、分泌物增多，呈脓性。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子宫内膜炎、子宫肌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恶露量多，浑浊有臭味；宫底部压痛；全身症状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结缔组织炎、急性输卵管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感染扩散累及盆腔结缔组织和输卵管；“冰冻骨盆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急性盆腔腹膜炎及弥漫性腹膜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严重全身中毒症状：高热、恶心、呕吐、腹胀；下腹压痛、反跳痛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17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血栓性静脉炎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局部静脉压痛、硬索状；“股白肿”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脓毒血症及败血症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d0d0d"/>
                          </a:solidFill>
                          <a:latin typeface="Verdana"/>
                        </a:rPr>
                        <a:t>休克症状，可危及生命</a:t>
                      </a:r>
                      <a:endParaRPr b="0" lang="en-US" sz="20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二）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腹部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实验室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其他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三）与疾病相关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评估产褥感染诱发因素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四）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五）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控制感染并纠正全身状况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支持疗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清除感染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第一节  产褥感染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抗生素应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辅助药物运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积极进行抢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5:24Z</dcterms:modified>
  <cp:revision>5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